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07C-9360-4377-B15E-B543A14D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641-F37F-4F76-8DAA-C7C6C21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50A-E91E-4463-A1AF-13800032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5B7-DB77-4029-B719-D191ABA3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847-297A-459A-A7AA-A47567A9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668-D222-4F45-AA07-DA4FF61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D0C-051B-4F09-B71E-2A5853DA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203-D1E3-4B55-BC54-1160467D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446-AE39-42F3-A3EE-5F648FD7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5D2-3EB3-4B1F-86C3-34686468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554-A0DE-45B7-A508-5197C987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6C7-BB1B-4C0E-B1BD-A0DF980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43A0-5D88-4F10-856C-0D6C4B3EA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read a pedigre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6" descr="pedigree key.gif"/>
          <p:cNvPicPr/>
          <p:nvPr/>
        </p:nvPicPr>
        <p:blipFill>
          <a:blip r:embed="rId1"/>
          <a:stretch/>
        </p:blipFill>
        <p:spPr>
          <a:xfrm>
            <a:off x="838080" y="1371600"/>
            <a:ext cx="7620120" cy="4952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7"/>
          <p:cNvSpPr/>
          <p:nvPr/>
        </p:nvSpPr>
        <p:spPr>
          <a:xfrm>
            <a:off x="5334120" y="5334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rier 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5562720" y="54100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410080" y="5257800"/>
            <a:ext cx="304920" cy="380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 flipH="1">
            <a:off x="5562000" y="6019920"/>
            <a:ext cx="7596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5410080" y="5943600"/>
            <a:ext cx="381240" cy="30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how traits are passed down through many gen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mostly on phen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the actual offsp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nnett squares show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ssi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ly only works well for single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polygenic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works for inherited tra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ronmental factors play a large role in who we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heriting Dise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like physical trait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eases can be inherited on our chromosom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, just like physical traits, some are X-linked, some are recessive, some are dominant or codomin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Chromosomal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X-Inactivation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f men only need one X chromosome, do women need both X’s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not, which one “works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Non-disjunction  </a:t>
            </a:r>
            <a:r>
              <a:rPr b="1" lang="en-US" sz="3200" spc="-1" strike="noStrike">
                <a:solidFill>
                  <a:srgbClr val="953735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ow gametes can end up with the wrong # of chromosomes in mei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-Chromosome Inac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 are XY: One X chromosome is en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men are XX:  The “extra” copy is not needed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denses into a “Barr body.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, you have trillions of cells.  Which X chromosome that “switches off” can vary in each cel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barr.gif"/>
          <p:cNvPicPr/>
          <p:nvPr/>
        </p:nvPicPr>
        <p:blipFill>
          <a:blip r:embed="rId1"/>
          <a:stretch/>
        </p:blipFill>
        <p:spPr>
          <a:xfrm>
            <a:off x="4114800" y="4114800"/>
            <a:ext cx="38955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aic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cat barr.jpg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886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371240"/>
            <a:ext cx="4114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coming apar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omologous chromosomes fail to separate in mei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lt in Trisomy or Monos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linefelter syndrome (trisomy X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 syndrome (trisomy 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ers syndrome (X_ monosom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4" descr="nondisjunction.jpg"/>
          <p:cNvPicPr/>
          <p:nvPr/>
        </p:nvPicPr>
        <p:blipFill>
          <a:blip r:embed="rId1"/>
          <a:stretch/>
        </p:blipFill>
        <p:spPr>
          <a:xfrm>
            <a:off x="4343400" y="228600"/>
            <a:ext cx="4572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56760" y="19828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dis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98" name="Chapter 14B.mpg" descr=""/>
          <p:cNvPicPr/>
          <p:nvPr/>
        </p:nvPicPr>
        <p:blipFill>
          <a:blip r:embed="rId4"/>
          <a:stretch/>
        </p:blipFill>
        <p:spPr>
          <a:xfrm>
            <a:off x="590400" y="461880"/>
            <a:ext cx="8020080" cy="601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8840" y="6854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Human Ge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7440" y="2895120"/>
            <a:ext cx="3352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Chapter 14-1, 14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98989"/>
                </a:solidFill>
                <a:latin typeface="Calibri"/>
              </a:rPr>
              <a:t>Huma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scq.ubc.ca/wp-content/uploads/2006/08/molecular-machine.gif"/>
          <p:cNvPicPr/>
          <p:nvPr/>
        </p:nvPicPr>
        <p:blipFill>
          <a:blip r:embed="rId1"/>
          <a:stretch/>
        </p:blipFill>
        <p:spPr>
          <a:xfrm>
            <a:off x="380880" y="444600"/>
            <a:ext cx="487692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GGGTCGCGTATCGTAGCTGATGGGGGTAGTATTTTATATGCTGGTAGACAAAACGGTGTACTGCCGTCGTCGTAGTGATGTGCGGCGCCAAAAATTATACTGTGACTGATCGTAGTGTAAAAAAAAAAGTCGTGCTGCTTTTTTCGATCGCGCGTAGTAGCTACGCCGCGGTTCGCGCGTAAGAGACTGATGCGACTGATATATATACGCGCTAGCATATATCTCTCGATCTGATCGTAGATGCTTAAGTTACTAGCTGTCGTATACGTAGTTAGTCGGGTGATGATGCTGTATATATCGCGCTCTATATGCTAGCTAGTGTTGTAGCTAGCTGATTCCCTCGAAGTCTCGTGAATAATCGCGCTTTCGGGGGCTCTC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mans have 22 pairs of AUTOSOM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is the 2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ir different?  What is it call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is picture called?  When was this cell photograph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is a man or a woman?  How do you kno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Human female karyotype"/>
          <p:cNvPicPr/>
          <p:nvPr/>
        </p:nvPicPr>
        <p:blipFill>
          <a:blip r:embed="rId1"/>
          <a:stretch/>
        </p:blipFill>
        <p:spPr>
          <a:xfrm>
            <a:off x="533520" y="2286000"/>
            <a:ext cx="80010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“2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 pair are the sex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his picture is a karyo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t was taken during mitosis (likely metaph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It is a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has one X chromosome (larger) and one Y chromosome (smal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6" descr="colorblind1_bw.jpg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d.umn.edu/cla/faculty/troufs/anth4616/images/colorblind1.jpg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793800" y="571500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blindness is an example of a sex-linked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womancarrier.jpg"/>
          <p:cNvPicPr/>
          <p:nvPr/>
        </p:nvPicPr>
        <p:blipFill>
          <a:blip r:embed="rId1"/>
          <a:stretch/>
        </p:blipFill>
        <p:spPr>
          <a:xfrm>
            <a:off x="457200" y="3962520"/>
            <a:ext cx="2666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200040" y="533160"/>
            <a:ext cx="56386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 = hemophilia, a sex-linked dis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, can you answ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dad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m aff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have the disea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carri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hildren are healthy? (careful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members.tripod.com/~dnascienceandtech/malehemo.jpg"/>
          <p:cNvPicPr/>
          <p:nvPr/>
        </p:nvPicPr>
        <p:blipFill>
          <a:blip r:embed="rId2"/>
          <a:stretch/>
        </p:blipFill>
        <p:spPr>
          <a:xfrm>
            <a:off x="533520" y="685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DIGREE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other way to study inheri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6" descr="xlinked.gif"/>
          <p:cNvPicPr/>
          <p:nvPr/>
        </p:nvPicPr>
        <p:blipFill>
          <a:blip r:embed="rId1"/>
          <a:stretch/>
        </p:blipFill>
        <p:spPr>
          <a:xfrm>
            <a:off x="457200" y="2371680"/>
            <a:ext cx="4038480" cy="2982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you think the F1 generation (line II) # 2 and #5 offspring represe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you draw the Punnett Square for the Parent generation? (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9"/>
          <p:cNvSpPr/>
          <p:nvPr/>
        </p:nvSpPr>
        <p:spPr>
          <a:xfrm>
            <a:off x="137160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3733920" y="35053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0:58:52Z</dcterms:created>
  <dc:creator>Joanne Lilliendahl</dc:creator>
  <dc:description/>
  <dc:language>en-US</dc:language>
  <cp:lastModifiedBy>udsd</cp:lastModifiedBy>
  <dcterms:modified xsi:type="dcterms:W3CDTF">2010-04-29T22:48:12Z</dcterms:modified>
  <cp:revision>37</cp:revision>
  <dc:subject/>
  <dc:title>Human Genetics</dc:title>
</cp:coreProperties>
</file>